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clap.wav" ContentType="audio/x-wav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3.jpeg" ContentType="image/jpeg"/>
  <Override PartName="/ppt/media/gunshot.wav" ContentType="audio/x-wav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D32-6541-4C56-A85D-A12FA6B4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FFB-0861-492F-B151-EB5124D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D78-9FE4-46D4-A59E-278CCE7A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F58-656C-4B0B-9E68-BA220FBA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244C-92CF-4F63-8A2D-AF007714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89D-0C01-45D9-A819-C056E2B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995D-BE3F-4150-A051-E4E69BE8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DE79-B567-4192-BE80-08AB905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62B-6DD0-4D26-AC19-6A581791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A81-19BE-4F1D-8F34-97127CE1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990B-53AF-421F-BB96-E5862FE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7E9-A91E-48F6-BD1A-44F5E50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B9E-8E9E-45A2-AB9C-82D1B3D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6CE-83E9-46FF-9E58-1C2058A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FA6E-88C7-49CE-82ED-488F227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6AFC-F5F7-4273-AC90-719FC823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C6B-2A02-4297-BF60-709F4884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D77-AD7B-4955-9811-5F61303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E2D-9393-4460-BA82-A57310D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924-915D-4136-A536-171273C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C06-1CB5-49A3-8045-F26AE61C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0DD-D7AA-4725-8213-57CD59C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7F6-3108-44DF-BAF7-A768EE3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E1A-834C-467B-B694-481A93D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172-633A-46A0-A60A-C8354FC8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DB1A-5150-4FC8-8D97-E5C8FE77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SHCMS</cp:lastModifiedBy>
  <dcterms:modified xsi:type="dcterms:W3CDTF">2009-01-27T00:25:59Z</dcterms:modified>
  <cp:revision>17</cp:revision>
  <dc:subject/>
  <dc:title>The Causes of WW1</dc:title>
</cp:coreProperties>
</file>